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0F41-404E-4D47-B771-2E38A046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029-5D8F-40A1-9016-EA8E9DE5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49B-FF83-4C6C-A8CE-EFC6EC85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CD7-4903-4FAD-9F8D-110F1932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0D3D-8DB4-4157-A3DC-96CF4F86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AAED-D476-4BF6-9723-434BEA43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533F-D467-4CF0-A241-F46FD1AE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209B-910E-40E5-A540-FB5D0EEE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5DE9-4F41-4B09-995A-C342E79E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B003-846E-4343-9FE0-88CB00F0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AA18-682F-4E39-981E-B12A8A6E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6585-10EE-4217-9B24-EA94F5E0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1EEE-468E-47A1-9708-8CE97583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E37F-2962-4075-8851-DDBA7F4F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B1BF-135F-40C5-A8BA-A4517DBA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E300-9537-42F8-9323-C9FC2485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49C9-9E73-4F56-A747-96B540F2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EB4-8296-4290-B5F7-2DF6AB3C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C87-D207-4E97-95F8-D5DA5797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E93-8716-47F2-8798-D03CC817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3EC7-E648-4267-A294-213645C8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E45-A9A5-496F-BAEA-5E8D8AFF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3FC1-AAB3-4B8F-9913-40F537B6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1D8-EE52-4192-B97E-3C9A0B2A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7773-B491-44BB-9BFE-98795B8663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7FC5-AD58-42D5-82E8-98FCF9A276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lze.Trusinska@vidm.gov.lv" TargetMode="External"/><Relationship Id="rId2" Type="http://schemas.openxmlformats.org/officeDocument/2006/relationships/hyperlink" Target="http://www.vidm.gov.lv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6000" spc="-1" strike="noStrike">
                <a:solidFill>
                  <a:srgbClr val="ffff00"/>
                </a:solidFill>
                <a:latin typeface="Arial"/>
              </a:rPr>
              <a:t>Vides aizsardzības lietu trīspusējās sadarbības apakšpadomes darbība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Vides aizsardzības lietu trīspusējās sadarbības apakšpadomes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(turpmāk VALTSA)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sastāv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ē ir 15 pārstāvji (pa 5 no katras puses), kurus deleģē Vides ministrija, Latvijas Brīvo Arodbiedrību savienība un Latvijas Darba Devēju konfederā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ALTSA uzdev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zskatīt politikas plānošanas un normatīvo aktu projektus, valsts budžeta projekta pamatnostādne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vides aizsardzības normatīvo aktu pilnveidošan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priekšlikumu izstrādāšanā un izskatīt Latvijas nacionālās pozīcija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arbības metod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stāvīga informācijas apmaiņ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kšanā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dom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ē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izi divos mēnešos(2007. gadā notikušas 5 sanāksm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āvīga elektroniskā komunikā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2007. gadā VALTSA sēdēs skatītie jautāj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isijas kvotu sadales plāna 2008.-2012. gadam apstiprināšanas gaita Eiropas Komis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iācijas iekļaušana Eiropas Savienības emisiju kvotu tirdzniecības sistēm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jaunojamo energoresursu izmantošanas pamatnostādņu  2006.-2013. g. ievieša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ikumu projekts „Noteikumi par elektroenerģijas ražošanu izmantojot atjaunojamos energoresurs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ionālais pārskats par Ilgtspējīgas attīstības stratēģijas īstenoša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kumprojekts „Grozījumi atkritumu apsaimniekošanas likumā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gtspējīga patēriņa, ražošanas Rīcības plā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ļā iepirkuma veicināšana Latv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ropas Savienības Vides ministru padomes darba kārtības jautāju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2008. gada plānotie jautājumi VALTSA sēdē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erģētikas  un klimata pak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emisijas kvotu tirdzniecības sistē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ārskatīšan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ēmuma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ltumnīcefekta gāzu emisijā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kuras neaptver ES emisijas kvotu tirdzniecības sistēm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jaunojamo energoresursu avot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zmantošanu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ācijas radītā ietekme uz klimata pārmaiņā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iropas Savienības Vides padomju izskatāmie darba kārtības jautāju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Zaļais iepirk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Ilze Trušinska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es sekretā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Ilze.Trusinska@vidm.gov.l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t. 6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65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vidm.gov.lv/</a:t>
            </a: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sadaļā padomes un konsultatīvās padomes „Vides aizsardzības lietu trīspusējās sadarbības apakšpad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27:45Z</dcterms:created>
  <dc:creator>Aija</dc:creator>
  <dc:description/>
  <dc:language>en-US</dc:language>
  <cp:lastModifiedBy>Sanita Diediske</cp:lastModifiedBy>
  <dcterms:modified xsi:type="dcterms:W3CDTF">2008-05-09T08:36:32Z</dcterms:modified>
  <cp:revision>17</cp:revision>
  <dc:subject/>
  <dc:title>Stratēģijas un koordinācijas departamen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8320886</vt:r8>
  </property>
  <property fmtid="{D5CDD505-2E9C-101B-9397-08002B2CF9AE}" pid="3" name="_AuthorEmail">
    <vt:lpwstr>Ilze.Trusinska@vidm.gov.lv</vt:lpwstr>
  </property>
  <property fmtid="{D5CDD505-2E9C-101B-9397-08002B2CF9AE}" pid="4" name="_AuthorEmailDisplayName">
    <vt:lpwstr>Ilze Trušinska</vt:lpwstr>
  </property>
  <property fmtid="{D5CDD505-2E9C-101B-9397-08002B2CF9AE}" pid="5" name="_EmailSubject">
    <vt:lpwstr>VALTSA darbība_2007. gads</vt:lpwstr>
  </property>
  <property fmtid="{D5CDD505-2E9C-101B-9397-08002B2CF9AE}" pid="6" name="_ReviewingToolsShownOnce">
    <vt:lpwstr/>
  </property>
</Properties>
</file>